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11.jpeg" ContentType="image/jpeg"/>
  <Override PartName="/ppt/media/image24.png" ContentType="image/png"/>
  <Override PartName="/ppt/media/image64.wmf" ContentType="image/x-wmf"/>
  <Override PartName="/ppt/media/image16.jpeg" ContentType="image/jpeg"/>
  <Override PartName="/ppt/media/image19.wmf" ContentType="image/x-wmf"/>
  <Override PartName="/ppt/media/image21.png" ContentType="image/png"/>
  <Override PartName="/ppt/media/image39.png" ContentType="image/png"/>
  <Override PartName="/ppt/media/image22.jpeg" ContentType="image/jpeg"/>
  <Override PartName="/ppt/media/image15.png" ContentType="image/png"/>
  <Override PartName="/ppt/media/image3.png" ContentType="image/png"/>
  <Override PartName="/ppt/media/image33.png" ContentType="image/png"/>
  <Override PartName="/ppt/media/image20.wmf" ContentType="image/x-wmf"/>
  <Override PartName="/ppt/media/image63.png" ContentType="image/png"/>
  <Override PartName="/ppt/media/image61.jpeg" ContentType="image/jpeg"/>
  <Override PartName="/ppt/media/image40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5.png" ContentType="image/png"/>
  <Override PartName="/ppt/media/image25.png" ContentType="image/png"/>
  <Override PartName="/ppt/media/image62.png" ContentType="image/png"/>
  <Override PartName="/ppt/media/image66.png" ContentType="image/png"/>
  <Override PartName="/ppt/media/image29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png" ContentType="image/png"/>
  <Override PartName="/ppt/media/image14.png" ContentType="image/png"/>
  <Override PartName="/ppt/media/image27.png" ContentType="image/png"/>
  <Override PartName="/ppt/media/image34.png" ContentType="image/png"/>
  <Override PartName="/ppt/media/image7.jpeg" ContentType="image/jpeg"/>
  <Override PartName="/ppt/media/image4.png" ContentType="image/png"/>
  <Override PartName="/ppt/media/image26.png" ContentType="image/png"/>
  <Override PartName="/ppt/media/image8.jpeg" ContentType="image/jpeg"/>
  <Override PartName="/ppt/media/image41.wmf" ContentType="image/x-wmf"/>
  <Override PartName="/ppt/media/image38.png" ContentType="image/png"/>
  <Override PartName="/ppt/media/image60.wmf" ContentType="image/x-wmf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6.jpeg" ContentType="image/jpeg"/>
  <Override PartName="/ppt/media/image18.png" ContentType="image/png"/>
  <Override PartName="/ppt/media/image58.wmf" ContentType="image/x-wmf"/>
  <Override PartName="/ppt/media/image48.png" ContentType="image/png"/>
  <Override PartName="/ppt/media/image1.png" ContentType="image/png"/>
  <Override PartName="/ppt/media/image13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2125-0389-4985-8D61-74AE2B15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2020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99B-C0FC-4E9A-8564-E00B65D8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02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202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E7F-7939-42C3-8DCF-67754507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202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202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202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1F23-77AA-4731-ACC0-40AB583F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75DF-B282-4C70-84FC-20EFB47C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C883-518A-4618-85B2-B64BF7A1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1AC8-0FF3-403C-8A28-8E0AE295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08D6-99CE-49DB-93D8-7F78065E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6340-14C6-4118-A4E5-1555347E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79EC-2BCD-432F-BE07-7D8603BB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202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0825-FA21-4ADC-8FBE-CEBD77D0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7D70-BE95-4A16-AFBF-DBEF724F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202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52B2-52FD-427F-8B51-5ADB8676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2020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7777-1593-43D9-9F06-29CF3F9F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2020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7E8D-8B79-4569-845B-6EDCCC6C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202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202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07D9-7BC2-40D6-872A-EFB29672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202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202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202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229A-9034-49B1-B52F-79382B4C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1CF-A7F9-409E-BEE6-CEBABDBA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53F-A165-4A93-A851-8911AA9A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4BB0-0A03-4906-AD90-DA6FB785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5DD-B83A-4581-8C90-B8F96119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202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8AB9-8291-42DD-A3E9-9C0ECA11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202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B704-6A81-4A70-B338-FA69D02F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2020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C817-FA90-417E-B4BB-CCC803DE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5e0e5"/>
          </a:solidFill>
          <a:ln w="0">
            <a:solidFill>
              <a:srgbClr val="d5e0e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gency FB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gency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14AF-20C1-4B5F-A6BD-8740C55C09EC}" type="slidenum">
              <a:rPr b="0" lang="en-GB" sz="14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106200"/>
            <a:ext cx="3529080" cy="8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5e0e5"/>
          </a:solidFill>
          <a:ln w="0">
            <a:solidFill>
              <a:srgbClr val="d5e0e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gency FB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gency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C57B-4D43-4710-937D-1BBD42DBA0AA}" type="slidenum">
              <a:rPr b="0" lang="en-GB" sz="14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" name=""/>
          <p:cNvSpPr/>
          <p:nvPr/>
        </p:nvSpPr>
        <p:spPr>
          <a:xfrm>
            <a:off x="2327760" y="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4096a"/>
                </a:solidFill>
                <a:latin typeface="Arial"/>
              </a:rPr>
              <a:t>1</a:t>
            </a:r>
            <a:r>
              <a:rPr b="0" lang="en-US" sz="7200" spc="-1" strike="noStrike">
                <a:solidFill>
                  <a:srgbClr val="516f85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1.wmf"/><Relationship Id="rId3" Type="http://schemas.openxmlformats.org/officeDocument/2006/relationships/image" Target="../media/image41.wmf"/><Relationship Id="rId4" Type="http://schemas.openxmlformats.org/officeDocument/2006/relationships/image" Target="../media/image41.wmf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57.png"/><Relationship Id="rId3" Type="http://schemas.openxmlformats.org/officeDocument/2006/relationships/image" Target="../media/image50.png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41.wmf"/><Relationship Id="rId3" Type="http://schemas.openxmlformats.org/officeDocument/2006/relationships/image" Target="../media/image33.png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60.wmf"/><Relationship Id="rId3" Type="http://schemas.openxmlformats.org/officeDocument/2006/relationships/image" Target="../media/image61.jpe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3.png"/><Relationship Id="rId3" Type="http://schemas.openxmlformats.org/officeDocument/2006/relationships/image" Target="../media/image64.wmf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5960" y="1484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REINVENTING </a:t>
            </a: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ELECTRONICS IN NK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47640" y="2565000"/>
            <a:ext cx="590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Prof.dr.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Loe FEIJS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Designed Intelligenc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Department of Industrial Desig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TU/e, Eindhoven, The Nether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80360" y="50760"/>
            <a:ext cx="1403280" cy="8352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5796000" y="5589720"/>
            <a:ext cx="3095640" cy="978480"/>
            <a:chOff x="5796000" y="5589720"/>
            <a:chExt cx="3095640" cy="97848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5796000" y="5805360"/>
              <a:ext cx="447480" cy="72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138720" y="5589720"/>
              <a:ext cx="1584360" cy="7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 Rounded MT Bold"/>
              </a:endParaRPr>
            </a:p>
            <a:p>
              <a:pPr marL="343080" indent="-343080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400" spc="-1" strike="noStrike">
                  <a:solidFill>
                    <a:srgbClr val="ff0000"/>
                  </a:solidFill>
                  <a:latin typeface="Times New Roman"/>
                </a:rPr>
                <a:t>JULY 13-15, 2007</a:t>
              </a:r>
              <a:endParaRPr b="0" lang="en-US" sz="1400" spc="-1" strike="noStrike">
                <a:solidFill>
                  <a:srgbClr val="000000"/>
                </a:solidFill>
                <a:latin typeface="Arial Rounded MT Bold"/>
              </a:endParaRPr>
            </a:p>
            <a:p>
              <a:pPr marL="343080" indent="-343080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400" spc="-1" strike="noStrike">
                  <a:solidFill>
                    <a:srgbClr val="ff0000"/>
                  </a:solidFill>
                  <a:latin typeface="Times New Roman"/>
                </a:rPr>
                <a:t>VERMONT</a:t>
              </a:r>
              <a:endParaRPr b="0" lang="en-US" sz="1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54560" y="6310080"/>
              <a:ext cx="27370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Times New Roman"/>
                </a:rPr>
                <a:t>University of Vermont, Burington, VT</a:t>
              </a:r>
              <a:endParaRPr b="0" lang="en-US" sz="12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547640" y="4221000"/>
            <a:ext cx="590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597240" indent="-5972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Times New Roman"/>
              </a:rPr>
              <a:t>Session B: Engineering and Design I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597240" indent="-5972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597240" indent="-5972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he goal (2)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2276640"/>
            <a:ext cx="7777080" cy="20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llenge I set is to be taken as an engineering challenge: the selected phenomena arising in the cellular automata have to be tamed and channeled in practical ways. 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hose a specific well-known type of circuit, the RC phase shift oscillator as a benchmark. I assume that if this can be done, other and more complex circuits are within reach too.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03280" y="4653000"/>
            <a:ext cx="37101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4360" y="981000"/>
            <a:ext cx="69832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he first attemp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(one-dimensional)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"/>
          <p:cNvSpPr/>
          <p:nvPr/>
        </p:nvSpPr>
        <p:spPr>
          <a:xfrm>
            <a:off x="898560" y="3278160"/>
            <a:ext cx="288720" cy="28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3278160"/>
            <a:ext cx="28908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0" name=""/>
          <p:cNvSpPr/>
          <p:nvPr/>
        </p:nvSpPr>
        <p:spPr>
          <a:xfrm>
            <a:off x="1474920" y="3278160"/>
            <a:ext cx="28872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3782880"/>
            <a:ext cx="28908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2" name=""/>
          <p:cNvSpPr/>
          <p:nvPr/>
        </p:nvSpPr>
        <p:spPr>
          <a:xfrm>
            <a:off x="1330200" y="35672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3" name=""/>
          <p:cNvSpPr/>
          <p:nvPr/>
        </p:nvSpPr>
        <p:spPr>
          <a:xfrm>
            <a:off x="2409840" y="3278160"/>
            <a:ext cx="289080" cy="289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"/>
          <p:cNvSpPr/>
          <p:nvPr/>
        </p:nvSpPr>
        <p:spPr>
          <a:xfrm>
            <a:off x="2698920" y="3278160"/>
            <a:ext cx="28872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5" name=""/>
          <p:cNvSpPr/>
          <p:nvPr/>
        </p:nvSpPr>
        <p:spPr>
          <a:xfrm>
            <a:off x="2987640" y="3278160"/>
            <a:ext cx="28908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6" name=""/>
          <p:cNvSpPr/>
          <p:nvPr/>
        </p:nvSpPr>
        <p:spPr>
          <a:xfrm>
            <a:off x="2698920" y="3782880"/>
            <a:ext cx="28872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7" name=""/>
          <p:cNvSpPr/>
          <p:nvPr/>
        </p:nvSpPr>
        <p:spPr>
          <a:xfrm>
            <a:off x="2841480" y="35672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8" name=""/>
          <p:cNvSpPr/>
          <p:nvPr/>
        </p:nvSpPr>
        <p:spPr>
          <a:xfrm>
            <a:off x="1114560" y="4019400"/>
            <a:ext cx="5760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9" name=""/>
          <p:cNvSpPr/>
          <p:nvPr/>
        </p:nvSpPr>
        <p:spPr>
          <a:xfrm>
            <a:off x="2266920" y="4070520"/>
            <a:ext cx="1728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  <a:ea typeface="Arial"/>
              </a:rPr>
              <a:t>½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+½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568040" y="3278160"/>
            <a:ext cx="289080" cy="289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280040" y="3278160"/>
            <a:ext cx="28872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990240" y="3278160"/>
            <a:ext cx="28908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280040" y="3782880"/>
            <a:ext cx="28872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4" name=""/>
          <p:cNvSpPr/>
          <p:nvPr/>
        </p:nvSpPr>
        <p:spPr>
          <a:xfrm>
            <a:off x="4425840" y="35672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5" name=""/>
          <p:cNvSpPr/>
          <p:nvPr/>
        </p:nvSpPr>
        <p:spPr>
          <a:xfrm>
            <a:off x="3849840" y="4070520"/>
            <a:ext cx="1728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  <a:ea typeface="Arial"/>
              </a:rPr>
              <a:t>½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+½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6" name=""/>
          <p:cNvSpPr/>
          <p:nvPr/>
        </p:nvSpPr>
        <p:spPr>
          <a:xfrm>
            <a:off x="5865840" y="3278160"/>
            <a:ext cx="288720" cy="2890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7" name=""/>
          <p:cNvSpPr/>
          <p:nvPr/>
        </p:nvSpPr>
        <p:spPr>
          <a:xfrm>
            <a:off x="6154560" y="3278160"/>
            <a:ext cx="28908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8" name=""/>
          <p:cNvSpPr/>
          <p:nvPr/>
        </p:nvSpPr>
        <p:spPr>
          <a:xfrm>
            <a:off x="5865840" y="3782880"/>
            <a:ext cx="28872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9" name=""/>
          <p:cNvSpPr/>
          <p:nvPr/>
        </p:nvSpPr>
        <p:spPr>
          <a:xfrm>
            <a:off x="6008760" y="3592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0" name=""/>
          <p:cNvSpPr/>
          <p:nvPr/>
        </p:nvSpPr>
        <p:spPr>
          <a:xfrm>
            <a:off x="5506920" y="4097160"/>
            <a:ext cx="2160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  <a:ea typeface="Arial"/>
              </a:rPr>
              <a:t>½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+½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576040" y="3278160"/>
            <a:ext cx="28908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2" name=""/>
          <p:cNvSpPr/>
          <p:nvPr/>
        </p:nvSpPr>
        <p:spPr>
          <a:xfrm>
            <a:off x="684360" y="4930920"/>
            <a:ext cx="8172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ltage, i.e. cell value spreads  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harge, i.e. area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× voltage is preserved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upply, ground and isolation coded as escape values in voltage range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2492280"/>
            <a:ext cx="1297080" cy="360360"/>
          </a:xfrm>
          <a:prstGeom prst="wedgeRoundRectCallout">
            <a:avLst>
              <a:gd name="adj1" fmla="val -37884"/>
              <a:gd name="adj2" fmla="val 18524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923760" cy="619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763640" y="1125360"/>
            <a:ext cx="5688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332000" y="3357720"/>
            <a:ext cx="1295280" cy="1288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84360" y="981000"/>
            <a:ext cx="69832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he first attemp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(two-dimensional)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825640" y="3429000"/>
            <a:ext cx="1419480" cy="600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825640" y="4221000"/>
            <a:ext cx="3324240" cy="1038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2825640" y="5518080"/>
            <a:ext cx="3762360" cy="657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900000" y="3357720"/>
            <a:ext cx="351000" cy="360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92000" y="1916280"/>
            <a:ext cx="817272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ltage range of 9 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solation coded as escape value zero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00 (ground) and Vcc supplied at two predefined location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6373800" y="4879800"/>
            <a:ext cx="361800" cy="314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6805440" y="4879800"/>
            <a:ext cx="1295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4876560" cy="2847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84360" y="6005520"/>
            <a:ext cx="6465600" cy="447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6503760" cy="285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684360" y="6539040"/>
            <a:ext cx="1295280" cy="129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684360" y="443700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732720" y="2584440"/>
            <a:ext cx="28872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1" name=""/>
          <p:cNvSpPr/>
          <p:nvPr/>
        </p:nvSpPr>
        <p:spPr>
          <a:xfrm>
            <a:off x="6732720" y="1360440"/>
            <a:ext cx="28872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2" name=""/>
          <p:cNvSpPr/>
          <p:nvPr/>
        </p:nvSpPr>
        <p:spPr>
          <a:xfrm>
            <a:off x="6732720" y="1647720"/>
            <a:ext cx="28872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3" name=""/>
          <p:cNvSpPr/>
          <p:nvPr/>
        </p:nvSpPr>
        <p:spPr>
          <a:xfrm>
            <a:off x="6443640" y="1647720"/>
            <a:ext cx="28908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4" name=""/>
          <p:cNvSpPr/>
          <p:nvPr/>
        </p:nvSpPr>
        <p:spPr>
          <a:xfrm>
            <a:off x="7018200" y="1647720"/>
            <a:ext cx="28908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5" name=""/>
          <p:cNvSpPr/>
          <p:nvPr/>
        </p:nvSpPr>
        <p:spPr>
          <a:xfrm>
            <a:off x="6732720" y="1936800"/>
            <a:ext cx="288720" cy="28872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6" name=""/>
          <p:cNvSpPr/>
          <p:nvPr/>
        </p:nvSpPr>
        <p:spPr>
          <a:xfrm>
            <a:off x="6875640" y="22971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2852640"/>
            <a:ext cx="2881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  <a:ea typeface="Arial"/>
              </a:rPr>
              <a:t>¼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a+ ¼b+ ¼d+ ¼e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8" name=""/>
          <p:cNvSpPr/>
          <p:nvPr/>
        </p:nvSpPr>
        <p:spPr>
          <a:xfrm>
            <a:off x="8244000" y="2584440"/>
            <a:ext cx="28872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9" name=""/>
          <p:cNvSpPr/>
          <p:nvPr/>
        </p:nvSpPr>
        <p:spPr>
          <a:xfrm>
            <a:off x="8244000" y="1360440"/>
            <a:ext cx="28872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0" name=""/>
          <p:cNvSpPr/>
          <p:nvPr/>
        </p:nvSpPr>
        <p:spPr>
          <a:xfrm>
            <a:off x="8244000" y="1647720"/>
            <a:ext cx="28872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1" name=""/>
          <p:cNvSpPr/>
          <p:nvPr/>
        </p:nvSpPr>
        <p:spPr>
          <a:xfrm>
            <a:off x="7954920" y="1647720"/>
            <a:ext cx="28908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2" name=""/>
          <p:cNvSpPr/>
          <p:nvPr/>
        </p:nvSpPr>
        <p:spPr>
          <a:xfrm>
            <a:off x="8529480" y="1647720"/>
            <a:ext cx="28908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3" name=""/>
          <p:cNvSpPr/>
          <p:nvPr/>
        </p:nvSpPr>
        <p:spPr>
          <a:xfrm>
            <a:off x="8244000" y="1936800"/>
            <a:ext cx="288720" cy="28872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4" name=""/>
          <p:cNvSpPr/>
          <p:nvPr/>
        </p:nvSpPr>
        <p:spPr>
          <a:xfrm>
            <a:off x="8386920" y="22971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5" name=""/>
          <p:cNvSpPr/>
          <p:nvPr/>
        </p:nvSpPr>
        <p:spPr>
          <a:xfrm>
            <a:off x="8242200" y="2828880"/>
            <a:ext cx="938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6" name=""/>
          <p:cNvSpPr/>
          <p:nvPr/>
        </p:nvSpPr>
        <p:spPr>
          <a:xfrm>
            <a:off x="7956720" y="1628640"/>
            <a:ext cx="288720" cy="289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7" name=""/>
          <p:cNvSpPr/>
          <p:nvPr/>
        </p:nvSpPr>
        <p:spPr>
          <a:xfrm>
            <a:off x="8244000" y="1341360"/>
            <a:ext cx="288720" cy="289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8" name=""/>
          <p:cNvSpPr/>
          <p:nvPr/>
        </p:nvSpPr>
        <p:spPr>
          <a:xfrm>
            <a:off x="8532720" y="1628640"/>
            <a:ext cx="289080" cy="28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9" name=""/>
          <p:cNvSpPr/>
          <p:nvPr/>
        </p:nvSpPr>
        <p:spPr>
          <a:xfrm>
            <a:off x="8244000" y="1941480"/>
            <a:ext cx="288720" cy="289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0"/>
          <a:stretch/>
        </p:blipFill>
        <p:spPr>
          <a:xfrm>
            <a:off x="250920" y="4437000"/>
            <a:ext cx="361800" cy="314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1"/>
          <a:stretch/>
        </p:blipFill>
        <p:spPr>
          <a:xfrm>
            <a:off x="250920" y="6427800"/>
            <a:ext cx="36180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4360" y="981000"/>
            <a:ext cx="69832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he first attempt (end) 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3" name=""/>
          <p:cNvSpPr/>
          <p:nvPr/>
        </p:nvSpPr>
        <p:spPr>
          <a:xfrm>
            <a:off x="792000" y="1916280"/>
            <a:ext cx="817272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uccess: voltage divider circuit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130560" y="2577960"/>
            <a:ext cx="2088720" cy="1137960"/>
            <a:chOff x="3130560" y="2577960"/>
            <a:chExt cx="2088720" cy="1137960"/>
          </a:xfrm>
        </p:grpSpPr>
        <p:sp>
          <p:nvSpPr>
            <p:cNvPr id="245" name=""/>
            <p:cNvSpPr/>
            <p:nvPr/>
          </p:nvSpPr>
          <p:spPr>
            <a:xfrm>
              <a:off x="4188600" y="2700720"/>
              <a:ext cx="167040" cy="36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88600" y="3190680"/>
              <a:ext cx="167040" cy="36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56120" y="2884320"/>
              <a:ext cx="334080" cy="36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3160" y="3251520"/>
              <a:ext cx="0" cy="42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70680" y="3558240"/>
              <a:ext cx="0" cy="12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23160" y="3681000"/>
              <a:ext cx="94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70680" y="3067920"/>
              <a:ext cx="0" cy="12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70680" y="2577960"/>
              <a:ext cx="0" cy="12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23160" y="2577960"/>
              <a:ext cx="94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23160" y="2577960"/>
              <a:ext cx="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70680" y="3128760"/>
              <a:ext cx="61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70680" y="3681000"/>
              <a:ext cx="61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74040" y="3107160"/>
              <a:ext cx="56520" cy="6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74040" y="3654000"/>
              <a:ext cx="56520" cy="6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59120" y="3251520"/>
              <a:ext cx="5601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nl-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½</a:t>
              </a:r>
              <a:r>
                <a:rPr b="1" lang="nl-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30560" y="2680200"/>
              <a:ext cx="7236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191120" y="5164200"/>
            <a:ext cx="166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2" name=""/>
          <p:cNvSpPr/>
          <p:nvPr/>
        </p:nvSpPr>
        <p:spPr>
          <a:xfrm>
            <a:off x="3157560" y="5348160"/>
            <a:ext cx="334800" cy="366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3" name=""/>
          <p:cNvSpPr/>
          <p:nvPr/>
        </p:nvSpPr>
        <p:spPr>
          <a:xfrm>
            <a:off x="3325680" y="5715000"/>
            <a:ext cx="0" cy="43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4" name=""/>
          <p:cNvSpPr/>
          <p:nvPr/>
        </p:nvSpPr>
        <p:spPr>
          <a:xfrm>
            <a:off x="3325680" y="6145200"/>
            <a:ext cx="94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5" name=""/>
          <p:cNvSpPr/>
          <p:nvPr/>
        </p:nvSpPr>
        <p:spPr>
          <a:xfrm>
            <a:off x="4284720" y="55324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6" name=""/>
          <p:cNvSpPr/>
          <p:nvPr/>
        </p:nvSpPr>
        <p:spPr>
          <a:xfrm>
            <a:off x="4272120" y="5041800"/>
            <a:ext cx="0" cy="122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"/>
          <p:cNvSpPr/>
          <p:nvPr/>
        </p:nvSpPr>
        <p:spPr>
          <a:xfrm>
            <a:off x="3325680" y="5041800"/>
            <a:ext cx="94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8" name=""/>
          <p:cNvSpPr/>
          <p:nvPr/>
        </p:nvSpPr>
        <p:spPr>
          <a:xfrm>
            <a:off x="3325680" y="5041800"/>
            <a:ext cx="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9" name=""/>
          <p:cNvSpPr/>
          <p:nvPr/>
        </p:nvSpPr>
        <p:spPr>
          <a:xfrm>
            <a:off x="4272120" y="5592600"/>
            <a:ext cx="61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0" name=""/>
          <p:cNvSpPr/>
          <p:nvPr/>
        </p:nvSpPr>
        <p:spPr>
          <a:xfrm>
            <a:off x="4272120" y="6145200"/>
            <a:ext cx="61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"/>
          <p:cNvSpPr/>
          <p:nvPr/>
        </p:nvSpPr>
        <p:spPr>
          <a:xfrm>
            <a:off x="4875120" y="5570640"/>
            <a:ext cx="57240" cy="63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2" name=""/>
          <p:cNvSpPr/>
          <p:nvPr/>
        </p:nvSpPr>
        <p:spPr>
          <a:xfrm>
            <a:off x="4875120" y="6118200"/>
            <a:ext cx="57240" cy="61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3" name=""/>
          <p:cNvSpPr/>
          <p:nvPr/>
        </p:nvSpPr>
        <p:spPr>
          <a:xfrm>
            <a:off x="4660920" y="5643720"/>
            <a:ext cx="2071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??Exp(-1/RCt)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4" name=""/>
          <p:cNvSpPr/>
          <p:nvPr/>
        </p:nvSpPr>
        <p:spPr>
          <a:xfrm>
            <a:off x="3132000" y="5145120"/>
            <a:ext cx="72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5" name=""/>
          <p:cNvSpPr/>
          <p:nvPr/>
        </p:nvSpPr>
        <p:spPr>
          <a:xfrm>
            <a:off x="4114800" y="58197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58910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7" name=""/>
          <p:cNvSpPr/>
          <p:nvPr/>
        </p:nvSpPr>
        <p:spPr>
          <a:xfrm>
            <a:off x="4284720" y="5904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1584360" cy="15764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92000" y="4164120"/>
            <a:ext cx="817272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ailure: implementing capacitor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0" name=""/>
          <p:cNvSpPr/>
          <p:nvPr/>
        </p:nvSpPr>
        <p:spPr>
          <a:xfrm>
            <a:off x="5977080" y="4870440"/>
            <a:ext cx="3058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dea: very large environment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dea: more escapes to store charge inside dielectric plate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 flipH="1">
            <a:off x="7954560" y="5157720"/>
            <a:ext cx="289080" cy="277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 flipH="1">
            <a:off x="8459280" y="6032520"/>
            <a:ext cx="289080" cy="2779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 flipH="1">
            <a:off x="8098920" y="6032520"/>
            <a:ext cx="289080" cy="277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1258920" y="4581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he second attemp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27240" y="4292640"/>
            <a:ext cx="1904760" cy="14000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587680" y="3325680"/>
            <a:ext cx="2376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9" name=""/>
          <p:cNvSpPr/>
          <p:nvPr/>
        </p:nvSpPr>
        <p:spPr>
          <a:xfrm>
            <a:off x="1258920" y="3500280"/>
            <a:ext cx="1800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0,1} -&gt; {1,0}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1,0} -&gt; {0,1}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0" name=""/>
          <p:cNvSpPr/>
          <p:nvPr/>
        </p:nvSpPr>
        <p:spPr>
          <a:xfrm>
            <a:off x="792000" y="1916280"/>
            <a:ext cx="817272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ck cellular automato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ck size for example two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les alternatingly apply to odd and even position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588000" y="1700280"/>
            <a:ext cx="1823760" cy="1297080"/>
            <a:chOff x="6588000" y="1700280"/>
            <a:chExt cx="1823760" cy="1297080"/>
          </a:xfrm>
        </p:grpSpPr>
        <p:sp>
          <p:nvSpPr>
            <p:cNvPr id="292" name=""/>
            <p:cNvSpPr/>
            <p:nvPr/>
          </p:nvSpPr>
          <p:spPr>
            <a:xfrm>
              <a:off x="6750360" y="173232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00120" y="173232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50600" y="173232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00000" y="173232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50480" y="173232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00600" y="173232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50360" y="173232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00840" y="173232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50240" y="173232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00720" y="173232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50360" y="1700280"/>
              <a:ext cx="29988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50600" y="1700280"/>
              <a:ext cx="29988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50480" y="1700280"/>
              <a:ext cx="29952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49640" y="1700280"/>
              <a:ext cx="29988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49520" y="1700280"/>
              <a:ext cx="29988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50360" y="2056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00120" y="2056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50600" y="2056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00000" y="2056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50480" y="2056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00600" y="2056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50360" y="2056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00840" y="2056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50240" y="2056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100720" y="2056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00120" y="2024640"/>
              <a:ext cx="29988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00000" y="2024640"/>
              <a:ext cx="29988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99880" y="2024640"/>
              <a:ext cx="29988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800120" y="2024640"/>
              <a:ext cx="29952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099640" y="2024640"/>
              <a:ext cx="29988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88000" y="2111040"/>
              <a:ext cx="1785960" cy="226440"/>
            </a:xfrm>
            <a:custGeom>
              <a:avLst/>
              <a:gdLst/>
              <a:ahLst/>
              <a:rect l="l" t="t" r="r" b="b"/>
              <a:pathLst>
                <a:path w="2162" h="317">
                  <a:moveTo>
                    <a:pt x="2102" y="15"/>
                  </a:moveTo>
                  <a:cubicBezTo>
                    <a:pt x="2132" y="106"/>
                    <a:pt x="2162" y="197"/>
                    <a:pt x="2102" y="242"/>
                  </a:cubicBezTo>
                  <a:cubicBezTo>
                    <a:pt x="2042" y="287"/>
                    <a:pt x="1996" y="280"/>
                    <a:pt x="1739" y="287"/>
                  </a:cubicBezTo>
                  <a:cubicBezTo>
                    <a:pt x="1482" y="294"/>
                    <a:pt x="817" y="287"/>
                    <a:pt x="560" y="287"/>
                  </a:cubicBezTo>
                  <a:cubicBezTo>
                    <a:pt x="303" y="287"/>
                    <a:pt x="288" y="317"/>
                    <a:pt x="197" y="287"/>
                  </a:cubicBezTo>
                  <a:cubicBezTo>
                    <a:pt x="106" y="257"/>
                    <a:pt x="30" y="151"/>
                    <a:pt x="15" y="106"/>
                  </a:cubicBezTo>
                  <a:cubicBezTo>
                    <a:pt x="0" y="61"/>
                    <a:pt x="61" y="30"/>
                    <a:pt x="106" y="15"/>
                  </a:cubicBezTo>
                  <a:cubicBezTo>
                    <a:pt x="151" y="0"/>
                    <a:pt x="219" y="7"/>
                    <a:pt x="288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62960" y="2380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912720" y="2380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62840" y="2380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12240" y="2380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62720" y="2380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13200" y="2380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62960" y="2380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813080" y="2380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62480" y="2380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12960" y="2380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62960" y="2348280"/>
              <a:ext cx="299880" cy="194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62840" y="2348280"/>
              <a:ext cx="299880" cy="194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62720" y="2348280"/>
              <a:ext cx="299880" cy="194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61880" y="2348280"/>
              <a:ext cx="299880" cy="194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61760" y="2348280"/>
              <a:ext cx="299880" cy="194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62960" y="271656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912720" y="271656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062840" y="271656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12240" y="271656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62720" y="271656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13200" y="271656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62960" y="271656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13080" y="271656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62480" y="271656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112960" y="271656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12720" y="2684520"/>
              <a:ext cx="29952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12240" y="2684520"/>
              <a:ext cx="29988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12480" y="2684520"/>
              <a:ext cx="29988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12360" y="2684520"/>
              <a:ext cx="29988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12240" y="2684520"/>
              <a:ext cx="29952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00240" y="2770920"/>
              <a:ext cx="1786320" cy="226440"/>
            </a:xfrm>
            <a:custGeom>
              <a:avLst/>
              <a:gdLst/>
              <a:ahLst/>
              <a:rect l="l" t="t" r="r" b="b"/>
              <a:pathLst>
                <a:path w="2162" h="317">
                  <a:moveTo>
                    <a:pt x="2102" y="15"/>
                  </a:moveTo>
                  <a:cubicBezTo>
                    <a:pt x="2132" y="106"/>
                    <a:pt x="2162" y="197"/>
                    <a:pt x="2102" y="242"/>
                  </a:cubicBezTo>
                  <a:cubicBezTo>
                    <a:pt x="2042" y="287"/>
                    <a:pt x="1996" y="280"/>
                    <a:pt x="1739" y="287"/>
                  </a:cubicBezTo>
                  <a:cubicBezTo>
                    <a:pt x="1482" y="294"/>
                    <a:pt x="817" y="287"/>
                    <a:pt x="560" y="287"/>
                  </a:cubicBezTo>
                  <a:cubicBezTo>
                    <a:pt x="303" y="287"/>
                    <a:pt x="288" y="317"/>
                    <a:pt x="197" y="287"/>
                  </a:cubicBezTo>
                  <a:cubicBezTo>
                    <a:pt x="106" y="257"/>
                    <a:pt x="30" y="151"/>
                    <a:pt x="15" y="106"/>
                  </a:cubicBezTo>
                  <a:cubicBezTo>
                    <a:pt x="0" y="61"/>
                    <a:pt x="61" y="30"/>
                    <a:pt x="106" y="15"/>
                  </a:cubicBezTo>
                  <a:cubicBezTo>
                    <a:pt x="151" y="0"/>
                    <a:pt x="219" y="7"/>
                    <a:pt x="288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he second attemp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5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6" name=""/>
          <p:cNvSpPr/>
          <p:nvPr/>
        </p:nvSpPr>
        <p:spPr>
          <a:xfrm>
            <a:off x="792000" y="1916280"/>
            <a:ext cx="817272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rom one to two dimension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actorize 2D in horizontal and vertical BCA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pecial colors to position ground and Vcc re-fill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pecial colors to overlay Ampèremeter and Voltmeter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MO: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secondATTEMPTbumpdemo.nb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MO: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secondATTEMPTbumpdemoBIS.nb 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DEMO: </a:t>
            </a:r>
            <a:r>
              <a:rPr b="0" lang="nl-NL" sz="1000" spc="-1" strike="noStrike">
                <a:solidFill>
                  <a:srgbClr val="ff0000"/>
                </a:solidFill>
                <a:latin typeface="Arial"/>
              </a:rPr>
              <a:t>secondATTEMPTbumpdemoBISBIS.nb</a:t>
            </a:r>
            <a:endParaRPr b="0" lang="en-US" sz="1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DEMO: </a:t>
            </a:r>
            <a:r>
              <a:rPr b="0" lang="nl-NL" sz="1000" spc="-1" strike="noStrike">
                <a:solidFill>
                  <a:srgbClr val="ff0000"/>
                </a:solidFill>
                <a:latin typeface="Arial"/>
              </a:rPr>
              <a:t>M16NEWelepacman10. nb</a:t>
            </a:r>
            <a:endParaRPr b="0" lang="en-US" sz="1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7" name=""/>
          <p:cNvSpPr/>
          <p:nvPr/>
        </p:nvSpPr>
        <p:spPr>
          <a:xfrm>
            <a:off x="971640" y="4437000"/>
            <a:ext cx="8172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5435640" y="3860640"/>
            <a:ext cx="333360" cy="324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71294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Success: resistors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1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2" name=""/>
          <p:cNvSpPr/>
          <p:nvPr/>
        </p:nvSpPr>
        <p:spPr>
          <a:xfrm>
            <a:off x="2587680" y="2503440"/>
            <a:ext cx="2376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3" name=""/>
          <p:cNvSpPr/>
          <p:nvPr/>
        </p:nvSpPr>
        <p:spPr>
          <a:xfrm>
            <a:off x="792000" y="1916280"/>
            <a:ext cx="817272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orking voltage divider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969840" y="3471840"/>
            <a:ext cx="2089440" cy="13906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562200" y="3443400"/>
            <a:ext cx="2089440" cy="1395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76800" y="3470400"/>
            <a:ext cx="2095560" cy="13827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971640" y="3041640"/>
            <a:ext cx="350640" cy="3603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3635280" y="3038400"/>
            <a:ext cx="362160" cy="3142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6"/>
          <a:stretch/>
        </p:blipFill>
        <p:spPr>
          <a:xfrm>
            <a:off x="6084720" y="3038400"/>
            <a:ext cx="362160" cy="3142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7"/>
          <a:stretch/>
        </p:blipFill>
        <p:spPr>
          <a:xfrm>
            <a:off x="1619280" y="260676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8"/>
          <a:stretch/>
        </p:blipFill>
        <p:spPr>
          <a:xfrm>
            <a:off x="2700360" y="5213520"/>
            <a:ext cx="719280" cy="5918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916360" y="469440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3" name=""/>
          <p:cNvSpPr/>
          <p:nvPr/>
        </p:nvSpPr>
        <p:spPr>
          <a:xfrm>
            <a:off x="1835280" y="3182760"/>
            <a:ext cx="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4" name=""/>
          <p:cNvSpPr/>
          <p:nvPr/>
        </p:nvSpPr>
        <p:spPr>
          <a:xfrm>
            <a:off x="1619280" y="5372280"/>
            <a:ext cx="934920" cy="288720"/>
          </a:xfrm>
          <a:prstGeom prst="wedgeRoundRectCallout">
            <a:avLst>
              <a:gd name="adj1" fmla="val 48981"/>
              <a:gd name="adj2" fmla="val -35274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5" name=""/>
          <p:cNvSpPr/>
          <p:nvPr/>
        </p:nvSpPr>
        <p:spPr>
          <a:xfrm>
            <a:off x="179280" y="5372280"/>
            <a:ext cx="936720" cy="287280"/>
          </a:xfrm>
          <a:prstGeom prst="wedgeRoundRectCallout">
            <a:avLst>
              <a:gd name="adj1" fmla="val 61523"/>
              <a:gd name="adj2" fmla="val -64613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6" name=""/>
          <p:cNvSpPr/>
          <p:nvPr/>
        </p:nvSpPr>
        <p:spPr>
          <a:xfrm>
            <a:off x="6659640" y="5300640"/>
            <a:ext cx="1871640" cy="576360"/>
          </a:xfrm>
          <a:prstGeom prst="cloudCallout">
            <a:avLst>
              <a:gd name="adj1" fmla="val 17430"/>
              <a:gd name="adj2" fmla="val -152203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= .5 Vcc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Capacitors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8" name=""/>
          <p:cNvSpPr/>
          <p:nvPr/>
        </p:nvSpPr>
        <p:spPr>
          <a:xfrm>
            <a:off x="2587680" y="3500280"/>
            <a:ext cx="2376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9" name=""/>
          <p:cNvSpPr/>
          <p:nvPr/>
        </p:nvSpPr>
        <p:spPr>
          <a:xfrm>
            <a:off x="792000" y="1916280"/>
            <a:ext cx="817272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ew behaviour near plate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tractio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pulsion 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0" name=""/>
          <p:cNvSpPr/>
          <p:nvPr/>
        </p:nvSpPr>
        <p:spPr>
          <a:xfrm>
            <a:off x="3203640" y="3933720"/>
            <a:ext cx="216000" cy="21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1" name=""/>
          <p:cNvSpPr/>
          <p:nvPr/>
        </p:nvSpPr>
        <p:spPr>
          <a:xfrm>
            <a:off x="2556000" y="3933720"/>
            <a:ext cx="2156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2" name=""/>
          <p:cNvSpPr/>
          <p:nvPr/>
        </p:nvSpPr>
        <p:spPr>
          <a:xfrm>
            <a:off x="2771640" y="3933720"/>
            <a:ext cx="216000" cy="216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3" name=""/>
          <p:cNvSpPr/>
          <p:nvPr/>
        </p:nvSpPr>
        <p:spPr>
          <a:xfrm>
            <a:off x="2987640" y="393372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7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8" name=""/>
          <p:cNvSpPr/>
          <p:nvPr/>
        </p:nvSpPr>
        <p:spPr>
          <a:xfrm>
            <a:off x="2556000" y="3141720"/>
            <a:ext cx="215640" cy="21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9" name=""/>
          <p:cNvSpPr/>
          <p:nvPr/>
        </p:nvSpPr>
        <p:spPr>
          <a:xfrm>
            <a:off x="2771640" y="3141720"/>
            <a:ext cx="216000" cy="216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0" name=""/>
          <p:cNvSpPr/>
          <p:nvPr/>
        </p:nvSpPr>
        <p:spPr>
          <a:xfrm>
            <a:off x="3203640" y="314172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1" name=""/>
          <p:cNvSpPr/>
          <p:nvPr/>
        </p:nvSpPr>
        <p:spPr>
          <a:xfrm>
            <a:off x="4788000" y="3141720"/>
            <a:ext cx="215640" cy="21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2" name=""/>
          <p:cNvSpPr/>
          <p:nvPr/>
        </p:nvSpPr>
        <p:spPr>
          <a:xfrm>
            <a:off x="4356000" y="3141720"/>
            <a:ext cx="216000" cy="216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314172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4" name=""/>
          <p:cNvSpPr/>
          <p:nvPr/>
        </p:nvSpPr>
        <p:spPr>
          <a:xfrm>
            <a:off x="2987640" y="3141720"/>
            <a:ext cx="216000" cy="21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5" name=""/>
          <p:cNvSpPr/>
          <p:nvPr/>
        </p:nvSpPr>
        <p:spPr>
          <a:xfrm>
            <a:off x="4140360" y="3141720"/>
            <a:ext cx="215640" cy="21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4581360"/>
            <a:ext cx="324036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1,x,1,0} -&gt; {1,x,0,1}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0,x,0,1} -&gt; {0,x,1,0}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7" name=""/>
          <p:cNvSpPr/>
          <p:nvPr/>
        </p:nvSpPr>
        <p:spPr>
          <a:xfrm>
            <a:off x="3492360" y="3089160"/>
            <a:ext cx="648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-&gt;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8" name=""/>
          <p:cNvSpPr/>
          <p:nvPr/>
        </p:nvSpPr>
        <p:spPr>
          <a:xfrm>
            <a:off x="3492360" y="3860640"/>
            <a:ext cx="648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-&gt;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9" name=""/>
          <p:cNvSpPr/>
          <p:nvPr/>
        </p:nvSpPr>
        <p:spPr>
          <a:xfrm>
            <a:off x="4500720" y="1413000"/>
            <a:ext cx="1225440" cy="1079280"/>
          </a:xfrm>
          <a:prstGeom prst="cloudCallout">
            <a:avLst>
              <a:gd name="adj1" fmla="val -98055"/>
              <a:gd name="adj2" fmla="val 37796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842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75136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56000" y="882720"/>
            <a:ext cx="3776400" cy="4275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627280" y="3141720"/>
            <a:ext cx="3311640" cy="2484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427640" y="3789360"/>
            <a:ext cx="431640" cy="43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3500280"/>
            <a:ext cx="431640" cy="4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4076640"/>
            <a:ext cx="431640" cy="4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Capacitors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2" name=""/>
          <p:cNvSpPr/>
          <p:nvPr/>
        </p:nvSpPr>
        <p:spPr>
          <a:xfrm>
            <a:off x="2587680" y="2708280"/>
            <a:ext cx="2376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3" name=""/>
          <p:cNvSpPr/>
          <p:nvPr/>
        </p:nvSpPr>
        <p:spPr>
          <a:xfrm>
            <a:off x="792000" y="1916280"/>
            <a:ext cx="817272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 rule of blocksize 4 for isolator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terleaved at lower frequency with basic rule 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148360" y="3243240"/>
            <a:ext cx="361800" cy="3142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1187280" y="2781360"/>
            <a:ext cx="4537080" cy="26305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1116000" y="5589720"/>
            <a:ext cx="4680000" cy="4842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867280" y="2781360"/>
            <a:ext cx="2952720" cy="1439640"/>
          </a:xfrm>
          <a:prstGeom prst="cloudCallout">
            <a:avLst>
              <a:gd name="adj1" fmla="val -68657"/>
              <a:gd name="adj2" fmla="val 5375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=         space 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=         “tron”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=        isolation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8" name=""/>
          <p:cNvSpPr/>
          <p:nvPr/>
        </p:nvSpPr>
        <p:spPr>
          <a:xfrm>
            <a:off x="6948360" y="3009960"/>
            <a:ext cx="216000" cy="21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9" name=""/>
          <p:cNvSpPr/>
          <p:nvPr/>
        </p:nvSpPr>
        <p:spPr>
          <a:xfrm>
            <a:off x="6948360" y="329868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0" name=""/>
          <p:cNvSpPr/>
          <p:nvPr/>
        </p:nvSpPr>
        <p:spPr>
          <a:xfrm>
            <a:off x="6948360" y="3586320"/>
            <a:ext cx="216000" cy="2156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Capacitors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2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3" name=""/>
          <p:cNvSpPr/>
          <p:nvPr/>
        </p:nvSpPr>
        <p:spPr>
          <a:xfrm>
            <a:off x="2587680" y="2205000"/>
            <a:ext cx="2376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4" name=""/>
          <p:cNvSpPr/>
          <p:nvPr/>
        </p:nvSpPr>
        <p:spPr>
          <a:xfrm>
            <a:off x="792000" y="1916280"/>
            <a:ext cx="817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971640" y="2743200"/>
            <a:ext cx="350640" cy="3603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5148360" y="2739960"/>
            <a:ext cx="361800" cy="3142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2916360" y="2739960"/>
            <a:ext cx="350640" cy="3603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5148360" y="3171960"/>
            <a:ext cx="2665440" cy="16444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971640" y="31719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2916360" y="3171960"/>
            <a:ext cx="1652400" cy="16570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124000" y="43959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2" name=""/>
          <p:cNvSpPr/>
          <p:nvPr/>
        </p:nvSpPr>
        <p:spPr>
          <a:xfrm>
            <a:off x="7380360" y="38926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3" name=""/>
          <p:cNvSpPr/>
          <p:nvPr/>
        </p:nvSpPr>
        <p:spPr>
          <a:xfrm>
            <a:off x="4068720" y="43959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4" name=""/>
          <p:cNvSpPr/>
          <p:nvPr/>
        </p:nvSpPr>
        <p:spPr>
          <a:xfrm>
            <a:off x="7380360" y="331632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5" name=""/>
          <p:cNvSpPr/>
          <p:nvPr/>
        </p:nvSpPr>
        <p:spPr>
          <a:xfrm>
            <a:off x="324000" y="5187960"/>
            <a:ext cx="934920" cy="289080"/>
          </a:xfrm>
          <a:prstGeom prst="wedgeRoundRectCallout">
            <a:avLst>
              <a:gd name="adj1" fmla="val 31152"/>
              <a:gd name="adj2" fmla="val -1796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6" name=""/>
          <p:cNvSpPr/>
          <p:nvPr/>
        </p:nvSpPr>
        <p:spPr>
          <a:xfrm>
            <a:off x="2195640" y="5187960"/>
            <a:ext cx="936360" cy="287280"/>
          </a:xfrm>
          <a:prstGeom prst="wedgeRoundRectCallout">
            <a:avLst>
              <a:gd name="adj1" fmla="val 37287"/>
              <a:gd name="adj2" fmla="val -18038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7" name=""/>
          <p:cNvSpPr/>
          <p:nvPr/>
        </p:nvSpPr>
        <p:spPr>
          <a:xfrm>
            <a:off x="5796000" y="2668680"/>
            <a:ext cx="1440000" cy="287280"/>
          </a:xfrm>
          <a:prstGeom prst="wedgeRoundRectCallout">
            <a:avLst>
              <a:gd name="adj1" fmla="val -73041"/>
              <a:gd name="adj2" fmla="val 1837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total charge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7"/>
          <a:stretch/>
        </p:blipFill>
        <p:spPr>
          <a:xfrm>
            <a:off x="1908000" y="259704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8"/>
          <a:stretch/>
        </p:blipFill>
        <p:spPr>
          <a:xfrm>
            <a:off x="3780000" y="259560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2124000" y="3029040"/>
            <a:ext cx="0" cy="57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1" name=""/>
          <p:cNvSpPr/>
          <p:nvPr/>
        </p:nvSpPr>
        <p:spPr>
          <a:xfrm>
            <a:off x="4029120" y="3029040"/>
            <a:ext cx="0" cy="57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Capacitors (alternative)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3" name=""/>
          <p:cNvSpPr/>
          <p:nvPr/>
        </p:nvSpPr>
        <p:spPr>
          <a:xfrm>
            <a:off x="2411280" y="206064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4" name=""/>
          <p:cNvSpPr/>
          <p:nvPr/>
        </p:nvSpPr>
        <p:spPr>
          <a:xfrm>
            <a:off x="3449520" y="2708280"/>
            <a:ext cx="2376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5" name=""/>
          <p:cNvSpPr/>
          <p:nvPr/>
        </p:nvSpPr>
        <p:spPr>
          <a:xfrm>
            <a:off x="792000" y="1916280"/>
            <a:ext cx="817272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asy capacitor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e plate grounded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1833480" y="3246480"/>
            <a:ext cx="351000" cy="3603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041480" y="3933720"/>
            <a:ext cx="684000" cy="287280"/>
          </a:xfrm>
          <a:prstGeom prst="wedgeRoundRectCallout">
            <a:avLst>
              <a:gd name="adj1" fmla="val 80624"/>
              <a:gd name="adj2" fmla="val 2568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1833480" y="3716280"/>
            <a:ext cx="1676520" cy="9619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2554200" y="5013360"/>
            <a:ext cx="719280" cy="5922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2770200" y="449424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1" name=""/>
          <p:cNvSpPr/>
          <p:nvPr/>
        </p:nvSpPr>
        <p:spPr>
          <a:xfrm>
            <a:off x="1330200" y="4941720"/>
            <a:ext cx="935280" cy="289080"/>
          </a:xfrm>
          <a:prstGeom prst="wedgeRoundRectCallout">
            <a:avLst>
              <a:gd name="adj1" fmla="val 21138"/>
              <a:gd name="adj2" fmla="val -1796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4427640" y="3860640"/>
            <a:ext cx="129528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ransistors (1)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4" name=""/>
          <p:cNvSpPr/>
          <p:nvPr/>
        </p:nvSpPr>
        <p:spPr>
          <a:xfrm>
            <a:off x="2411280" y="206064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5" name=""/>
          <p:cNvSpPr/>
          <p:nvPr/>
        </p:nvSpPr>
        <p:spPr>
          <a:xfrm>
            <a:off x="3449520" y="2708280"/>
            <a:ext cx="2376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6" name=""/>
          <p:cNvSpPr/>
          <p:nvPr/>
        </p:nvSpPr>
        <p:spPr>
          <a:xfrm>
            <a:off x="792000" y="1916280"/>
            <a:ext cx="817272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dea: FET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urce, drain, gate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187280" y="2781360"/>
            <a:ext cx="1284480" cy="129528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1979640" y="3429000"/>
            <a:ext cx="647640" cy="504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9" name=""/>
          <p:cNvSpPr/>
          <p:nvPr/>
        </p:nvSpPr>
        <p:spPr>
          <a:xfrm>
            <a:off x="2700360" y="2781360"/>
            <a:ext cx="934920" cy="288720"/>
          </a:xfrm>
          <a:prstGeom prst="wedgeRoundRectCallout">
            <a:avLst>
              <a:gd name="adj1" fmla="val -80560"/>
              <a:gd name="adj2" fmla="val 1637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0" name=""/>
          <p:cNvSpPr/>
          <p:nvPr/>
        </p:nvSpPr>
        <p:spPr>
          <a:xfrm>
            <a:off x="250920" y="3284640"/>
            <a:ext cx="684000" cy="287280"/>
          </a:xfrm>
          <a:prstGeom prst="wedgeRoundRectCallout">
            <a:avLst>
              <a:gd name="adj1" fmla="val 86194"/>
              <a:gd name="adj2" fmla="val 1582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1" name=""/>
          <p:cNvSpPr/>
          <p:nvPr/>
        </p:nvSpPr>
        <p:spPr>
          <a:xfrm>
            <a:off x="2627280" y="3789360"/>
            <a:ext cx="1728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2" name=""/>
          <p:cNvSpPr/>
          <p:nvPr/>
        </p:nvSpPr>
        <p:spPr>
          <a:xfrm>
            <a:off x="792000" y="4641840"/>
            <a:ext cx="817272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ail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dem diagonal variant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 flipH="1">
            <a:off x="1692360" y="4653000"/>
            <a:ext cx="288720" cy="2779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684360" y="2781360"/>
            <a:ext cx="350640" cy="36036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 flipH="1">
            <a:off x="3634920" y="5084640"/>
            <a:ext cx="289080" cy="2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ransistors (2)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7" name=""/>
          <p:cNvSpPr/>
          <p:nvPr/>
        </p:nvSpPr>
        <p:spPr>
          <a:xfrm>
            <a:off x="2411280" y="206064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8" name=""/>
          <p:cNvSpPr/>
          <p:nvPr/>
        </p:nvSpPr>
        <p:spPr>
          <a:xfrm>
            <a:off x="3449520" y="2708280"/>
            <a:ext cx="2376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9" name=""/>
          <p:cNvSpPr/>
          <p:nvPr/>
        </p:nvSpPr>
        <p:spPr>
          <a:xfrm>
            <a:off x="792000" y="1916280"/>
            <a:ext cx="817272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ew idea: beam deflection transistor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0" name=""/>
          <p:cNvSpPr/>
          <p:nvPr/>
        </p:nvSpPr>
        <p:spPr>
          <a:xfrm>
            <a:off x="4643280" y="2565360"/>
            <a:ext cx="3529080" cy="26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ron gu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ron going downhill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solating gate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pelling tro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ai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llector chamber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1042920" y="2997360"/>
            <a:ext cx="351000" cy="3603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1619280" y="2708280"/>
            <a:ext cx="2305080" cy="15256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792000" y="4859280"/>
            <a:ext cx="81727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t works!!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64" name="" descr="De Forest Audion from 1906."/>
          <p:cNvPicPr/>
          <p:nvPr/>
        </p:nvPicPr>
        <p:blipFill>
          <a:blip r:embed="rId3"/>
          <a:stretch/>
        </p:blipFill>
        <p:spPr>
          <a:xfrm>
            <a:off x="6012000" y="5084640"/>
            <a:ext cx="1323720" cy="9032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7524720" y="5084640"/>
            <a:ext cx="1228680" cy="152424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92000" y="5589720"/>
            <a:ext cx="8172720" cy="14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eels like De Forest (1906) or Tellegen (1926)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 Bardeen, Brattain and Shockly (1947)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Phase shift oscillator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8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9" name=""/>
          <p:cNvSpPr/>
          <p:nvPr/>
        </p:nvSpPr>
        <p:spPr>
          <a:xfrm>
            <a:off x="792000" y="1916280"/>
            <a:ext cx="817272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riple RC phase shift oscillator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MO: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M6NEWelepacman.nb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0" name=""/>
          <p:cNvSpPr/>
          <p:nvPr/>
        </p:nvSpPr>
        <p:spPr>
          <a:xfrm>
            <a:off x="971640" y="4437000"/>
            <a:ext cx="8172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3710160" cy="18115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755640" y="6308640"/>
            <a:ext cx="36734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0000"/>
                </a:solidFill>
                <a:latin typeface="Arial"/>
              </a:rPr>
              <a:t>oscillatorRCRCRCdoethetBIS.BMP</a:t>
            </a:r>
            <a:endParaRPr b="0" lang="en-US" sz="1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755640" y="4745160"/>
            <a:ext cx="3816360" cy="1549440"/>
          </a:xfrm>
          <a:prstGeom prst="rect">
            <a:avLst/>
          </a:prstGeom>
          <a:ln w="0">
            <a:noFill/>
          </a:ln>
        </p:spPr>
      </p:pic>
      <p:grpSp>
        <p:nvGrpSpPr>
          <p:cNvPr id="474" name=""/>
          <p:cNvGrpSpPr/>
          <p:nvPr/>
        </p:nvGrpSpPr>
        <p:grpSpPr>
          <a:xfrm>
            <a:off x="5148360" y="4652640"/>
            <a:ext cx="3311280" cy="1959840"/>
            <a:chOff x="5148360" y="4652640"/>
            <a:chExt cx="3311280" cy="1959840"/>
          </a:xfrm>
        </p:grpSpPr>
        <p:pic>
          <p:nvPicPr>
            <p:cNvPr id="475" name="" descr=""/>
            <p:cNvPicPr/>
            <p:nvPr/>
          </p:nvPicPr>
          <p:blipFill>
            <a:blip r:embed="rId3"/>
            <a:stretch/>
          </p:blipFill>
          <p:spPr>
            <a:xfrm>
              <a:off x="5651640" y="4699080"/>
              <a:ext cx="2495520" cy="15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 flipV="1">
              <a:off x="5435640" y="4652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67640" y="6381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48360" y="5084640"/>
              <a:ext cx="8636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Volts</a:t>
              </a:r>
              <a:endParaRPr b="0" lang="en-US" sz="1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596360" y="6381720"/>
              <a:ext cx="8632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324000" y="4724280"/>
            <a:ext cx="350640" cy="36036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5003640" y="2349360"/>
            <a:ext cx="338472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DEMO: </a:t>
            </a:r>
            <a:r>
              <a:rPr b="0" lang="nl-NL" sz="1000" spc="-1" strike="noStrike">
                <a:solidFill>
                  <a:srgbClr val="ff0000"/>
                </a:solidFill>
                <a:latin typeface="Arial"/>
              </a:rPr>
              <a:t>secondATTEMPTbumpdemoBISBIS.nb</a:t>
            </a:r>
            <a:endParaRPr b="0" lang="en-US" sz="1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DEMO: </a:t>
            </a:r>
            <a:r>
              <a:rPr b="0" lang="nl-NL" sz="1000" spc="-1" strike="noStrike">
                <a:solidFill>
                  <a:srgbClr val="ff0000"/>
                </a:solidFill>
                <a:latin typeface="Arial"/>
              </a:rPr>
              <a:t>M16NEWelepacman10. nb</a:t>
            </a:r>
            <a:endParaRPr b="0" lang="en-US" sz="1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5"/>
          <a:stretch/>
        </p:blipFill>
        <p:spPr>
          <a:xfrm>
            <a:off x="7740720" y="4797360"/>
            <a:ext cx="36180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830160" y="981000"/>
            <a:ext cx="69818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he second attempt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4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5" name=""/>
          <p:cNvSpPr/>
          <p:nvPr/>
        </p:nvSpPr>
        <p:spPr>
          <a:xfrm>
            <a:off x="936720" y="1916280"/>
            <a:ext cx="817236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timistic next step: componentisatio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-use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alculating RC time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duction and isolating “glue” color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utcomes dependent on innocent looking detail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6" name=""/>
          <p:cNvSpPr/>
          <p:nvPr/>
        </p:nvSpPr>
        <p:spPr>
          <a:xfrm>
            <a:off x="971640" y="4437000"/>
            <a:ext cx="8172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 flipH="1">
            <a:off x="6443280" y="3860640"/>
            <a:ext cx="289080" cy="2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830160" y="981000"/>
            <a:ext cx="69818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he second attempt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9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0" name=""/>
          <p:cNvSpPr/>
          <p:nvPr/>
        </p:nvSpPr>
        <p:spPr>
          <a:xfrm>
            <a:off x="792000" y="1916280"/>
            <a:ext cx="81727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1" name=""/>
          <p:cNvSpPr/>
          <p:nvPr/>
        </p:nvSpPr>
        <p:spPr>
          <a:xfrm>
            <a:off x="971640" y="4437000"/>
            <a:ext cx="8172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3957840" cy="10764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3959280" cy="9730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971640" y="4284720"/>
            <a:ext cx="3959280" cy="9986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4"/>
          <a:stretch/>
        </p:blipFill>
        <p:spPr>
          <a:xfrm>
            <a:off x="971640" y="5435640"/>
            <a:ext cx="40320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830160" y="981000"/>
            <a:ext cx="69818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he second attempt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7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8" name=""/>
          <p:cNvSpPr/>
          <p:nvPr/>
        </p:nvSpPr>
        <p:spPr>
          <a:xfrm>
            <a:off x="936720" y="1916280"/>
            <a:ext cx="8172360" cy="50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sty micro-level phenomena: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am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ing wave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ew tools: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ew guidelines: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plexity is a friend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9" name=""/>
          <p:cNvSpPr/>
          <p:nvPr/>
        </p:nvSpPr>
        <p:spPr>
          <a:xfrm>
            <a:off x="971640" y="4437000"/>
            <a:ext cx="8172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0" name=""/>
          <p:cNvSpPr/>
          <p:nvPr/>
        </p:nvSpPr>
        <p:spPr>
          <a:xfrm>
            <a:off x="5651640" y="4437000"/>
            <a:ext cx="3313080" cy="22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PS  in real electronics, the currents doesn’t always flow orderly through the wires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kin effect,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ternal resistance,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mperfect isolation, 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ductive couplings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arasitic capacities, 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rmic noise generation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Guidelines are part of engineering 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332000" y="3933720"/>
            <a:ext cx="231120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685800" y="105264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3" name=""/>
          <p:cNvSpPr/>
          <p:nvPr/>
        </p:nvSpPr>
        <p:spPr>
          <a:xfrm>
            <a:off x="792000" y="2205000"/>
            <a:ext cx="8172720" cy="15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n’t know (yet)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ectricity in 2nd Life perhaps?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04" name="" descr="De Forest Audion from 1906."/>
          <p:cNvPicPr/>
          <p:nvPr/>
        </p:nvPicPr>
        <p:blipFill>
          <a:blip r:embed="rId1"/>
          <a:stretch/>
        </p:blipFill>
        <p:spPr>
          <a:xfrm>
            <a:off x="4973760" y="5683320"/>
            <a:ext cx="1323720" cy="9032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6413400" y="5362560"/>
            <a:ext cx="995400" cy="123516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792000" y="3151080"/>
            <a:ext cx="8352000" cy="26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put for my teaching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mproved understanding of both electronics and NK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t’s “wow” inventing like De Forest, Tellegen, Bardeen, Brattain or Shockly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7566120" y="5145120"/>
            <a:ext cx="1182600" cy="141912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900000" y="6308640"/>
            <a:ext cx="3313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0000"/>
                </a:solidFill>
                <a:latin typeface="Arial"/>
              </a:rPr>
              <a:t>Next -&gt; journal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42920" y="3645000"/>
            <a:ext cx="571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ng intellig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s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s and related servic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1781280"/>
            <a:ext cx="5400720" cy="1225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2997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Department of Industrial Desig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685800" y="105264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Personal background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2276640"/>
            <a:ext cx="8172360" cy="26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 industrial design of embedded system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ing basic electronics to design student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gh expectations of embedded Mathematica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freshing Mathematica skills dormant since 1999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4221000"/>
            <a:ext cx="698472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eijs, Jonkers. Formal Specification and Design. Cambridge University Press (1992, 2005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eijs, van Ommering. Relation partition algebra — mathematical aspects of uses and part-of relationsSource Science of Computer Programming Vol 33(2)  (1999) pp. 163 – 2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eijs, Meinel. A Formal Approach to Product Semantics with an Application to Sustainable Design. Design Issues, Vol. 21, No. 3. (2005), pp. 67-81. 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803160"/>
            <a:ext cx="2905200" cy="2632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03280" y="1700280"/>
            <a:ext cx="3672000" cy="27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908000" y="2349360"/>
            <a:ext cx="3024360" cy="2500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340000" y="25653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987640" y="3284640"/>
            <a:ext cx="3435480" cy="2411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3780000" y="3500280"/>
            <a:ext cx="2879640" cy="2506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4716360" y="3860640"/>
            <a:ext cx="2665440" cy="2513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6516720" y="4245120"/>
            <a:ext cx="262728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822400" cy="2870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476360" y="2349360"/>
            <a:ext cx="2627280" cy="2503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771640" y="2924280"/>
            <a:ext cx="3356280" cy="2690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643280" y="3645000"/>
            <a:ext cx="3219480" cy="247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300720" y="3860640"/>
            <a:ext cx="26146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he goal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2276640"/>
            <a:ext cx="81723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the expressive power of cellular automata 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n alternative basis for electrical engineering;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tellectual challenge (for now)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lfram's claims concerning fundamental physics NKS  Ch.9, p.433,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rkably simple programs often capture the essence going o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 electrical engineering is clearly based on physic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t be rediscovered in the behavior of simple programs?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Electronics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2205000"/>
            <a:ext cx="8172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ltage, current, impedance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ponents: R, C, L, transistor, …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hm’s law,   Z</a:t>
            </a:r>
            <a:r>
              <a:rPr b="0" lang="nl-NL" sz="1800" spc="-1" strike="noStrike" baseline="-16000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 (j.2</a:t>
            </a:r>
            <a:r>
              <a:rPr b="0" lang="nl-NL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f.C)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nl-NL" sz="1800" spc="-1" strike="noStrike" baseline="-16000">
                <a:solidFill>
                  <a:srgbClr val="000000"/>
                </a:solidFill>
                <a:latin typeface="Arial"/>
              </a:rPr>
              <a:t>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j.2</a:t>
            </a:r>
            <a:r>
              <a:rPr b="0" lang="nl-NL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f.L 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res, junctions, </a:t>
            </a: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 = 0,   </a:t>
            </a: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ltage sources, instruments, experience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ata sheets, application notes, simulators, layout tool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059280" y="3932280"/>
            <a:ext cx="432720" cy="360360"/>
            <a:chOff x="3059280" y="3932280"/>
            <a:chExt cx="432720" cy="360360"/>
          </a:xfrm>
        </p:grpSpPr>
        <p:sp>
          <p:nvSpPr>
            <p:cNvPr id="131" name=""/>
            <p:cNvSpPr/>
            <p:nvPr/>
          </p:nvSpPr>
          <p:spPr>
            <a:xfrm>
              <a:off x="3169080" y="3947400"/>
              <a:ext cx="22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89400" y="3947400"/>
              <a:ext cx="94320" cy="1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074400" y="3947400"/>
              <a:ext cx="94320" cy="1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074400" y="4113000"/>
              <a:ext cx="408960" cy="166320"/>
              <a:chOff x="3074400" y="4113000"/>
              <a:chExt cx="408960" cy="166320"/>
            </a:xfrm>
          </p:grpSpPr>
          <p:sp>
            <p:nvSpPr>
              <p:cNvPr id="135" name=""/>
              <p:cNvSpPr/>
              <p:nvPr/>
            </p:nvSpPr>
            <p:spPr>
              <a:xfrm>
                <a:off x="3168720" y="4279320"/>
                <a:ext cx="22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3389040" y="4113000"/>
                <a:ext cx="94320" cy="16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74400" y="4113000"/>
                <a:ext cx="94320" cy="16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157920" y="3935880"/>
              <a:ext cx="31320" cy="3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72840" y="3932280"/>
              <a:ext cx="30960" cy="3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59280" y="4093200"/>
              <a:ext cx="30960" cy="3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61040" y="4093200"/>
              <a:ext cx="30960" cy="3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52160" y="4259880"/>
              <a:ext cx="30960" cy="3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76800" y="4259880"/>
              <a:ext cx="31320" cy="3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49640" y="4000320"/>
              <a:ext cx="125640" cy="232200"/>
            </a:xfrm>
            <a:custGeom>
              <a:avLst/>
              <a:gdLst>
                <a:gd name="textAreaLeft" fmla="*/ 16560 w 125640"/>
                <a:gd name="textAreaRight" fmla="*/ 109080 w 125640"/>
                <a:gd name="textAreaTop" fmla="*/ 48600 h 232200"/>
                <a:gd name="textAreaBottom" fmla="*/ 160200 h 2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087" stAng="-5400000" swAng="-5400000"/>
                  <a:lnTo>
                    <a:pt x="0" y="10354"/>
                  </a:lnTo>
                  <a:arcTo wR="21600" hR="9087" stAng="10800000" swAng="-2997277"/>
                  <a:lnTo>
                    <a:pt x="14400" y="21080"/>
                  </a:lnTo>
                  <a:lnTo>
                    <a:pt x="21600" y="18807"/>
                  </a:lnTo>
                  <a:lnTo>
                    <a:pt x="14400" y="15493"/>
                  </a:lnTo>
                  <a:lnTo>
                    <a:pt x="14400" y="17653"/>
                  </a:lnTo>
                  <a:arcTo wR="21600" hR="9087" stAng="7802723" swAng="2896235"/>
                  <a:lnTo>
                    <a:pt x="53" y="9720"/>
                  </a:lnTo>
                  <a:arcTo wR="21600" hR="9087" stAng="-10698959" swAng="5298959"/>
                  <a:close/>
                </a:path>
                <a:path fill="darkenLess" w="21600" h="21600">
                  <a:moveTo>
                    <a:pt x="21600" y="0"/>
                  </a:moveTo>
                  <a:arcTo wR="21600" hR="9087" stAng="-5400000" swAng="-5400000"/>
                  <a:lnTo>
                    <a:pt x="0" y="9087"/>
                  </a:lnTo>
                  <a:arcTo wR="21600" hR="9087" stAng="10800000" swAng="-101041"/>
                  <a:lnTo>
                    <a:pt x="53" y="9720"/>
                  </a:lnTo>
                  <a:arcTo wR="21600" hR="9087" stAng="-10698959" swAng="5298959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294360" y="3979800"/>
              <a:ext cx="125640" cy="232200"/>
            </a:xfrm>
            <a:custGeom>
              <a:avLst/>
              <a:gdLst>
                <a:gd name="textAreaLeft" fmla="*/ 16560 w 125640"/>
                <a:gd name="textAreaRight" fmla="*/ 109080 w 125640"/>
                <a:gd name="textAreaTop" fmla="*/ 48240 h 232200"/>
                <a:gd name="textAreaBottom" fmla="*/ 159840 h 2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087" stAng="-5400000" swAng="-5400000"/>
                  <a:lnTo>
                    <a:pt x="0" y="10354"/>
                  </a:lnTo>
                  <a:arcTo wR="21600" hR="9087" stAng="10800000" swAng="-2997277"/>
                  <a:lnTo>
                    <a:pt x="14400" y="21080"/>
                  </a:lnTo>
                  <a:lnTo>
                    <a:pt x="21600" y="18807"/>
                  </a:lnTo>
                  <a:lnTo>
                    <a:pt x="14400" y="15493"/>
                  </a:lnTo>
                  <a:lnTo>
                    <a:pt x="14400" y="17653"/>
                  </a:lnTo>
                  <a:arcTo wR="21600" hR="9087" stAng="7802723" swAng="2896235"/>
                  <a:lnTo>
                    <a:pt x="53" y="9720"/>
                  </a:lnTo>
                  <a:arcTo wR="21600" hR="9087" stAng="-10698959" swAng="5298959"/>
                  <a:close/>
                </a:path>
                <a:path fill="darkenLess" w="21600" h="21600">
                  <a:moveTo>
                    <a:pt x="21600" y="0"/>
                  </a:moveTo>
                  <a:arcTo wR="21600" hR="9087" stAng="-5400000" swAng="-5400000"/>
                  <a:lnTo>
                    <a:pt x="0" y="9087"/>
                  </a:lnTo>
                  <a:arcTo wR="21600" hR="9087" stAng="10800000" swAng="-101041"/>
                  <a:lnTo>
                    <a:pt x="53" y="9720"/>
                  </a:lnTo>
                  <a:arcTo wR="21600" hR="9087" stAng="-10698959" swAng="5298959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138560" y="3925080"/>
            <a:ext cx="362520" cy="375120"/>
            <a:chOff x="4138560" y="3925080"/>
            <a:chExt cx="362520" cy="375120"/>
          </a:xfrm>
        </p:grpSpPr>
        <p:grpSp>
          <p:nvGrpSpPr>
            <p:cNvPr id="147" name=""/>
            <p:cNvGrpSpPr/>
            <p:nvPr/>
          </p:nvGrpSpPr>
          <p:grpSpPr>
            <a:xfrm>
              <a:off x="4140360" y="3932280"/>
              <a:ext cx="360360" cy="360360"/>
              <a:chOff x="4140360" y="3932280"/>
              <a:chExt cx="360360" cy="360360"/>
            </a:xfrm>
          </p:grpSpPr>
          <p:sp>
            <p:nvSpPr>
              <p:cNvPr id="148" name=""/>
              <p:cNvSpPr/>
              <p:nvPr/>
            </p:nvSpPr>
            <p:spPr>
              <a:xfrm>
                <a:off x="4307040" y="4096080"/>
                <a:ext cx="27360" cy="3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4195800" y="3932280"/>
                <a:ext cx="2491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140360" y="411300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195800" y="3932280"/>
                <a:ext cx="2491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431960" y="4046040"/>
              <a:ext cx="68760" cy="56880"/>
            </a:xfrm>
            <a:prstGeom prst="rightArrow">
              <a:avLst>
                <a:gd name="adj1" fmla="val 32352"/>
                <a:gd name="adj2" fmla="val 3387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139640" y="4122000"/>
              <a:ext cx="68760" cy="56880"/>
            </a:xfrm>
            <a:prstGeom prst="rightArrow">
              <a:avLst>
                <a:gd name="adj1" fmla="val 32352"/>
                <a:gd name="adj2" fmla="val 3387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3088800">
              <a:off x="4419360" y="4209840"/>
              <a:ext cx="75960" cy="51480"/>
            </a:xfrm>
            <a:prstGeom prst="rightArrow">
              <a:avLst>
                <a:gd name="adj1" fmla="val 32352"/>
                <a:gd name="adj2" fmla="val 4134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 rot="3088800">
              <a:off x="4143960" y="3962880"/>
              <a:ext cx="75960" cy="51120"/>
            </a:xfrm>
            <a:prstGeom prst="rightArrow">
              <a:avLst>
                <a:gd name="adj1" fmla="val 32352"/>
                <a:gd name="adj2" fmla="val 4164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 rot="18511200">
              <a:off x="4333320" y="3944520"/>
              <a:ext cx="75960" cy="51120"/>
            </a:xfrm>
            <a:prstGeom prst="rightArrow">
              <a:avLst>
                <a:gd name="adj1" fmla="val 32352"/>
                <a:gd name="adj2" fmla="val 4164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rot="18511200">
              <a:off x="4229640" y="4228920"/>
              <a:ext cx="75960" cy="51120"/>
            </a:xfrm>
            <a:prstGeom prst="rightArrow">
              <a:avLst>
                <a:gd name="adj1" fmla="val 32352"/>
                <a:gd name="adj2" fmla="val 4164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651640" y="2421000"/>
            <a:ext cx="16570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30160" y="105264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Electronics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0" name=""/>
          <p:cNvSpPr/>
          <p:nvPr/>
        </p:nvSpPr>
        <p:spPr>
          <a:xfrm>
            <a:off x="2843280" y="249408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84240" y="1917720"/>
            <a:ext cx="3549600" cy="1348560"/>
            <a:chOff x="984240" y="1917720"/>
            <a:chExt cx="3549600" cy="1348560"/>
          </a:xfrm>
        </p:grpSpPr>
        <p:sp>
          <p:nvSpPr>
            <p:cNvPr id="162" name=""/>
            <p:cNvSpPr/>
            <p:nvPr/>
          </p:nvSpPr>
          <p:spPr>
            <a:xfrm>
              <a:off x="984240" y="2925720"/>
              <a:ext cx="3384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Free electrons </a:t>
              </a: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3708360" y="1917720"/>
              <a:ext cx="825480" cy="129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984240" y="3213000"/>
            <a:ext cx="6459480" cy="1646280"/>
            <a:chOff x="984240" y="3213000"/>
            <a:chExt cx="6459480" cy="1646280"/>
          </a:xfrm>
        </p:grpSpPr>
        <p:pic>
          <p:nvPicPr>
            <p:cNvPr id="165" name="" descr="James Clerk Maxwell"/>
            <p:cNvPicPr/>
            <p:nvPr/>
          </p:nvPicPr>
          <p:blipFill>
            <a:blip r:embed="rId2"/>
            <a:stretch/>
          </p:blipFill>
          <p:spPr>
            <a:xfrm>
              <a:off x="5867280" y="3213000"/>
              <a:ext cx="15764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984240" y="4457520"/>
              <a:ext cx="3384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Maxwell’s  equations</a:t>
              </a: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971640" y="2811600"/>
            <a:ext cx="4790880" cy="1266840"/>
            <a:chOff x="971640" y="2811600"/>
            <a:chExt cx="4790880" cy="1266840"/>
          </a:xfrm>
        </p:grpSpPr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4643280" y="2811600"/>
              <a:ext cx="111924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971640" y="3695760"/>
              <a:ext cx="3384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chrödinger equation</a:t>
              </a: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855880" y="3286080"/>
            <a:ext cx="338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no, buy resistor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4818240"/>
            <a:ext cx="4235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no, use wires, capacitor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2" name=""/>
          <p:cNvSpPr/>
          <p:nvPr/>
        </p:nvSpPr>
        <p:spPr>
          <a:xfrm>
            <a:off x="2855880" y="4071960"/>
            <a:ext cx="33847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no, just buy transistor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9T12:12:24Z</dcterms:created>
  <dc:creator>iebjent</dc:creator>
  <dc:description/>
  <dc:language>en-US</dc:language>
  <cp:lastModifiedBy>Dienst ICT</cp:lastModifiedBy>
  <cp:lastPrinted>2001-10-31T11:10:30Z</cp:lastPrinted>
  <dcterms:modified xsi:type="dcterms:W3CDTF">2007-07-14T11:01:42Z</dcterms:modified>
  <cp:revision>284</cp:revision>
  <dc:subject/>
  <dc:title>Welcome</dc:title>
</cp:coreProperties>
</file>